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C8D-AAC2-4206-98AD-F0439A6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AFA-D349-4CFE-851E-6CB25A4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3D4-65FD-41B7-9AA3-D91CEC34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4CA-D4D8-45EA-AA46-A68271C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B2D-E28C-4E87-9D09-219BA709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D58-3C4F-4A68-BA1D-1AFB7D8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F06-602D-4668-B084-016AB22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CE6-68A1-4B4D-96DB-E81B2D73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90F-9340-4240-AED5-AA84F18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0CA-D105-4CE4-9FAA-2D7B791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CC2-E73B-4BE2-9344-4C1DEAB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8BC-381D-4BA6-8796-9882374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E27E-0FDF-4BB6-81A2-018FEFC4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101520"/>
            <a:ext cx="647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s of Human Anatomy &amp; Physi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248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712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87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aine N. Ma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685800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Chapter 6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uscular Syste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124080"/>
            <a:ext cx="51055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6320"/>
            <a:ext cx="152640" cy="1066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09480"/>
            <a:ext cx="7238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Function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92320"/>
            <a:ext cx="830592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duce mov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 pos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bilize joi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te he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81080"/>
            <a:ext cx="824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multinucle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i are just beneath the sarcolem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9032"/>
          <a:stretch/>
        </p:blipFill>
        <p:spPr>
          <a:xfrm>
            <a:off x="2286000" y="3809880"/>
            <a:ext cx="4738680" cy="258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72200" y="61261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lemma – specialized plasma membr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plasmic reticulum – specialized smooth endoplasmic reticul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9032"/>
          <a:stretch/>
        </p:blipFill>
        <p:spPr>
          <a:xfrm>
            <a:off x="2286000" y="3809880"/>
            <a:ext cx="4738680" cy="2581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72200" y="61261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628640"/>
            <a:ext cx="838224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ndles of myo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fibrils are aligned to give distrinct ba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and =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 b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and =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rk b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8340"/>
          <a:stretch/>
        </p:blipFill>
        <p:spPr>
          <a:xfrm>
            <a:off x="3733920" y="3871800"/>
            <a:ext cx="5094000" cy="239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096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057400"/>
            <a:ext cx="82454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ile unit of a muscle fib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8340"/>
          <a:stretch/>
        </p:blipFill>
        <p:spPr>
          <a:xfrm>
            <a:off x="3733920" y="3871800"/>
            <a:ext cx="5094000" cy="239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00200"/>
            <a:ext cx="8245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ganization of the 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ck filaments = myosin 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the protein myos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ATPase enzy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1644"/>
          <a:stretch/>
        </p:blipFill>
        <p:spPr>
          <a:xfrm>
            <a:off x="1676520" y="4038480"/>
            <a:ext cx="609732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76520"/>
            <a:ext cx="861084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ganization of the 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 filaments = actin 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the protein act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1644"/>
          <a:stretch/>
        </p:blipFill>
        <p:spPr>
          <a:xfrm>
            <a:off x="1676520" y="4038480"/>
            <a:ext cx="6097320" cy="2206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05120"/>
            <a:ext cx="824544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filaments have heads (extensions, or cross bridg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an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n overlap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wh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7458"/>
          <a:stretch/>
        </p:blipFill>
        <p:spPr>
          <a:xfrm>
            <a:off x="4191120" y="3352680"/>
            <a:ext cx="484488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7644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Properties of Skeletal Muscle Activity (single cells or fibers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rritability – ability to receive and respond to a stimul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ctility – ability to shorten when an adequate stimulus is receiv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990720"/>
            <a:ext cx="365760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muscles must be stimulated by a nerve to contract (motor neruro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tor un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neu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cle cells stimulated by that neu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114800" y="1371600"/>
            <a:ext cx="4896000" cy="4816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8660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Mu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82454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are responsible for all types of body movement – they contract or shorten and are the machine of the bo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basic muscle types are found in the bo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eletal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diac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82720"/>
            <a:ext cx="350532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muscular junctions – association site of nerve an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5947"/>
          <a:stretch/>
        </p:blipFill>
        <p:spPr>
          <a:xfrm>
            <a:off x="4419720" y="2286000"/>
            <a:ext cx="4548240" cy="3057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5680" y="57150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388620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naptic cleft – gap between nerve an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rve and muscle do not make cont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a between nerve and muscle is filled with interstitial flu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0" b="5947"/>
          <a:stretch/>
        </p:blipFill>
        <p:spPr>
          <a:xfrm>
            <a:off x="4419720" y="2286000"/>
            <a:ext cx="4548240" cy="3057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660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ansmission of Nerve Impulse to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82720"/>
            <a:ext cx="824544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transmitter – chemical released by nerve upon arrival of nerve impul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urotransmitter for skeletal muscle is acetylcho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transmitter attaches to receptors on the sarcolem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lemma becomes permeable to sodium (N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ansmission of Nerve Impulse to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dium rushing into the cell generates an action potent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ce started, muscle contraction cannot be stopp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 of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905120"/>
            <a:ext cx="441972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ation by nerve causes myosin heads (crossbridges) to attach to binding sites on the thin fila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heads then bind to the next site of the thin fila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257800" y="1447920"/>
            <a:ext cx="358308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257800" y="6324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 of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057400"/>
            <a:ext cx="4496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continued action causes a sliding of the myosin along the act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esult is that the muscle is shortened (contract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257800" y="1447920"/>
            <a:ext cx="358308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57800" y="6324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43735"/>
          <a:stretch/>
        </p:blipFill>
        <p:spPr>
          <a:xfrm>
            <a:off x="228600" y="1600200"/>
            <a:ext cx="8763120" cy="2360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66760" y="58672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0" r="0" b="81056"/>
          <a:stretch/>
        </p:blipFill>
        <p:spPr>
          <a:xfrm>
            <a:off x="2362320" y="4267080"/>
            <a:ext cx="46861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traction of a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066680"/>
            <a:ext cx="82454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fiber contraction is “all or none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in a skeletal muscle, not all fibers may be stimulated during the same interv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 combinations of muscle fiber contractions may give differing respon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ded responses – different degrees of skeletal muscle shortening, rapid stimulus = constant contraction or tetan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Response to Strong Stimul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055960"/>
            <a:ext cx="8245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force depends upon the number of fibers stimul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fibers contracting results in greater muscle ten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can continue to contract unless they run out of ener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828800"/>
            <a:ext cx="824544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itially, muscles used stored ATP for ener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s of ATP are broken to release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4-6 seconds worth of ATP is stored by mus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this initial time, other pathways must be utilized to produce AT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haracteristics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17680"/>
            <a:ext cx="824544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cells are elongat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muscle cell = muscle fibe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ction of muscles is due to the movement of microfila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 muscles share some termi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r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fl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17680"/>
            <a:ext cx="563904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 phosphory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creatine phosphate 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is a high-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TP is depleted, ADP i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transfers energy to ADP, to regenerate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supplies are exhausted in about 20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68404" b="3364"/>
          <a:stretch/>
        </p:blipFill>
        <p:spPr>
          <a:xfrm>
            <a:off x="6095880" y="1081080"/>
            <a:ext cx="2748240" cy="5396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1340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76520"/>
            <a:ext cx="495324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erobic glycoly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ion that breaks down glucose without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 is broken down to pyruvic acid to produce some A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ruvic acid is converted to lact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32042" t="0" r="35731" b="3364"/>
          <a:stretch/>
        </p:blipFill>
        <p:spPr>
          <a:xfrm>
            <a:off x="5994360" y="1066680"/>
            <a:ext cx="2768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28800"/>
            <a:ext cx="4953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erobic glycolysis (continu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reaction is not as efficient, but is f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ge amounts of glucose are nee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tic acid produces muscle fatig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2042" t="0" r="35731" b="3364"/>
          <a:stretch/>
        </p:blipFill>
        <p:spPr>
          <a:xfrm>
            <a:off x="5994360" y="1066680"/>
            <a:ext cx="276876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9054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371600"/>
            <a:ext cx="51818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erobic  Respi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es of metabolic pathways that occur in the mitochond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 is broken down to carbon dioxide and water, releasing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 slower reaction that requires continuous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63547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64528" t="0" r="-7" b="3364"/>
          <a:stretch/>
        </p:blipFill>
        <p:spPr>
          <a:xfrm>
            <a:off x="6019920" y="1066680"/>
            <a:ext cx="3047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Fatigue and Oxygen Deb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371600"/>
            <a:ext cx="8610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uscle is fatigued, it is unable 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reason for muscle fatigue is oxyge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must be “repaid” to tissue to remove oxygen deb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is required to get rid of accumulated lact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acidity (from lactic acid) and lack of ATP causes the muscle to contract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Muscle Contrac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752480"/>
            <a:ext cx="82454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tonic contr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filaments are able to slide past each other during contra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uscle short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metric contr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sion in the muscles incre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uscle is unable to short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Ton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057400"/>
            <a:ext cx="8245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fibers are contracted even in a relaxe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 fibers contract at different times to provide muscle t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rocess of stimulating various fibers is under involuntary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and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590920"/>
            <a:ext cx="373392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vement is attained due to a muscle moving an attached b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rcRect l="0" t="0" r="0" b="3522"/>
          <a:stretch/>
        </p:blipFill>
        <p:spPr>
          <a:xfrm>
            <a:off x="4648320" y="1752480"/>
            <a:ext cx="4179600" cy="426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4832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and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40388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are attached to at least two poi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 – attachment to a moveable b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ertion – attachment to an immovable b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0" t="0" r="0" b="3522"/>
          <a:stretch/>
        </p:blipFill>
        <p:spPr>
          <a:xfrm>
            <a:off x="4648320" y="1752480"/>
            <a:ext cx="4179600" cy="4267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4832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ffects of Exercise on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09680"/>
            <a:ext cx="824544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 of increased muscle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streng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effici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cle becomes more fatigue resi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66880"/>
            <a:ext cx="8245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are attached by tendons to bo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multinucle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iated – have visible ban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ntary – subject to conscious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surrounded and bundled by connective tissue = great force, but tires easi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Ordinary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2133720"/>
            <a:ext cx="8245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exion – decreases angle of joint and brings two bones closer togeth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- opposite of flex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tation- movement of a bone in longitudinal axis, shaking head “no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duction/Adduction (see slid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ircumduction (see slid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028880" y="1219320"/>
            <a:ext cx="7086600" cy="5151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08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4037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05320" y="76212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: Abduction – moving the leg away from the mi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44956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– Adduction- moving toward the mi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4191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4038480" y="2666880"/>
            <a:ext cx="2279880" cy="3638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2120" y="4114800"/>
            <a:ext cx="297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mduction: cone-shaped movement, proximal end doesn’t move, while distal end moves in a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523880"/>
            <a:ext cx="824544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ime mover – muscle with the major responsibility for a certain mov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tagonist – muscle that opposes or reverses a prime mo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nergist – muscle that aids a prime mover in a movement and helps prevent ro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438280"/>
            <a:ext cx="824544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 of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t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straigh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ve size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xim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rges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2209680"/>
            <a:ext cx="82454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: many muscles are named for bones (e.g.,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emporal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mber of origi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ricep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three head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1417680"/>
            <a:ext cx="8245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 of the muscles origin and inser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ern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 the sternu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pe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lto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riangul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lex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tenso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lexes or extends a bo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Head and Neck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19320" y="1143000"/>
            <a:ext cx="6705360" cy="5192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8116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unk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0" t="0" r="0" b="4141"/>
          <a:stretch/>
        </p:blipFill>
        <p:spPr>
          <a:xfrm>
            <a:off x="380880" y="1371600"/>
            <a:ext cx="8356680" cy="4716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80880" y="6172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ep Trunk and Arm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3596"/>
          <a:stretch/>
        </p:blipFill>
        <p:spPr>
          <a:xfrm>
            <a:off x="291960" y="1371600"/>
            <a:ext cx="8560080" cy="4724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4920" y="6172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nective Tissue Wrappings of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3581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mysium – around single muscle fib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mysium – around a fascicle (bundle) of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700520" y="1219320"/>
            <a:ext cx="427032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0564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0880" y="304920"/>
            <a:ext cx="8610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uscles of the Pelvis, Hip, and T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355840" y="990720"/>
            <a:ext cx="4430880" cy="548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400480" y="620244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of the Lower Le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71720" y="1219320"/>
            <a:ext cx="5199120" cy="5257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981080" y="62024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perficial Muscles: Anterio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0" r="0" b="4330"/>
          <a:stretch/>
        </p:blipFill>
        <p:spPr>
          <a:xfrm>
            <a:off x="2082960" y="990720"/>
            <a:ext cx="4978080" cy="5486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171880" y="612612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perficial Muscles: Posterio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133720" y="990720"/>
            <a:ext cx="4911480" cy="5486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209680" y="6126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orders relating to the Muscula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ar Dystrophy:  inherited, muscle enlarge due to increased fat and connective tissue, but fibers degenerate and atr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henne MD:  lacking a protein to maintain the sarco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asthemia Gravis:  progressive weakness due to a shortage of acetylcholine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nective Tissue Wrappings of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209680"/>
            <a:ext cx="35816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mysium – covers the entire skeletal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cia – on the outside of the epimys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700520" y="1219320"/>
            <a:ext cx="427032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0564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 Attach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824544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mysium blends into a connective tissue attach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don – cord-like 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neuroses – sheet-like 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tes of muscle attach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til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e tissue cove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mooth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396252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no st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-shape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– no consciou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mainly in the walls of hollow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, sustained and t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50762" b="3948"/>
          <a:stretch/>
        </p:blipFill>
        <p:spPr>
          <a:xfrm>
            <a:off x="4794120" y="1600200"/>
            <a:ext cx="4044960" cy="4419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rdiac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066680"/>
            <a:ext cx="396252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t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ingl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to another muscle cell at an intercalated d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only in 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p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6584" t="9934" r="-2030" b="3948"/>
          <a:stretch/>
        </p:blipFill>
        <p:spPr>
          <a:xfrm>
            <a:off x="5029200" y="1523880"/>
            <a:ext cx="3733920" cy="396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05520" y="57150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6:42:38Z</dcterms:created>
  <dc:creator>Hawkeye Community College</dc:creator>
  <dc:description/>
  <dc:language>en-US</dc:language>
  <cp:lastModifiedBy>Administrator</cp:lastModifiedBy>
  <dcterms:modified xsi:type="dcterms:W3CDTF">2004-05-10T15:50:11Z</dcterms:modified>
  <cp:revision>18</cp:revision>
  <dc:subject/>
  <dc:title>PowerPoint Presentation</dc:title>
</cp:coreProperties>
</file>